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6.wmf" ContentType="image/x-wmf"/>
  <Override PartName="/ppt/media/image15.png" ContentType="image/png"/>
  <Override PartName="/ppt/media/image1.jpeg" ContentType="image/jpeg"/>
  <Override PartName="/ppt/media/image10.png" ContentType="image/png"/>
  <Override PartName="/ppt/media/image13.wmf" ContentType="image/x-wmf"/>
  <Override PartName="/ppt/media/image8.jpeg" ContentType="image/jpeg"/>
  <Override PartName="/ppt/media/image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2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5920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5920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6104-C357-4BCA-8D05-C96391C72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59200" y="9443880"/>
            <a:ext cx="2951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9065-2597-43F6-B14A-01B2278EC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1.Established what is being taught and 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eacher survey (re numeracy blo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2.Planning s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3.Clinical Inter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How a maths lesson should l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4. Team meetings- dialogue and problem around targeted 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heck in meeting- modified/ adjusted to changing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5. Against growth point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Leading to adjusted flexibl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59200" y="9443880"/>
            <a:ext cx="2951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D400-26CC-4C8C-89A7-B3DBA0FBB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eacher knowledge- focus on building confidence and knowledge through targeted 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Brought together “What is the data telling us”  combined with newly acquired knowledge= willingness to try new ways, new strate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sulted in change in attitude to teaching maths and learning ma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Kerin Hazard mentored Hilary and Hilary mentored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Whole School Framework: Input, reflection, Commit To Action,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Professional reading, strategies, critical reflection- what has worked, what hasn’t worked, co te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o motivated and inspire whole staff in readiness for ph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59200" y="9443880"/>
            <a:ext cx="2951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F9D0-1886-4AB1-B2A0-72BD69D3B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Positive feedback from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tudents visibly motivated and eng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Found their v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Less able students demonstrated willingness to share their learning woth whole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59200" y="9443880"/>
            <a:ext cx="2951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3321-F860-4003-895C-88879679F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* Unexpected!!!!!Confidence/ volunteered to facilitate PL- motivated by their own successful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59200" y="9443880"/>
            <a:ext cx="2951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1AF7-02FB-48D3-95C3-55792EE05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1. Willingness to “step up” – seems a natural thing to do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haring with “non team members”- applied in other learning con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3. Attending PL in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59200" y="9443880"/>
            <a:ext cx="2951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37E4-C85A-4363-8067-535D15CEE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4. (relevant, practical, reflection, point  of nee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59200" y="9443880"/>
            <a:ext cx="2951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932F-FF12-420D-82B0-1BE6379BB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dult learning principles- relevance, practical, range of input opportunity for reflection, commit to action and scheduled feedback/ follow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96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59200" y="9443880"/>
            <a:ext cx="2951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BCC5-F291-4BC8-9401-7646B9B7C57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8AC8-887E-4321-A402-1A645032F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FA16-55BE-4369-897B-E682764C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7E8F-BC6F-4B58-A7D4-49D70801A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E6C8-5E9E-4963-AEEE-D435771DB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DCB0-6790-48EF-9A68-EC0B07522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CB5E-4D89-4F3F-85DD-C3C3699B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C913-C6B7-4E27-B9AE-6E311DF2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78E9-4FF3-4712-A636-F285329A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753C-171B-4CAF-8765-62A60EA3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F89A-42E8-4840-90E9-4C6D33BC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CB6C-8758-421E-86EE-152583FD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4200-D49C-4020-A420-0E8426B9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BFB0-E9AD-468F-B9DB-895B1C9A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5B36-CF5C-4838-8A8B-6FEB4732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48E4-3520-4D8A-8B41-49C0588D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E78C-E6B2-415D-A970-C1335469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2A2C-9457-4DFE-8440-2F6489C76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056C9-B58F-4AB4-AA7A-4AFC1234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86DE0-3C32-4FDA-AB35-08A494A1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638BB-87CC-4051-8D11-4208BBCE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F6650-C6BC-4D71-91EB-6BCF0DAF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CB588-E557-4C9A-8C9C-E1449260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A6B1-BE3C-41BC-962A-422BF707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F7FDF-B5E7-4180-831A-9D38A882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F86BB-38D9-4675-B033-F43DA6CB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076FE-352C-4B15-A29F-BE7201C1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D9C33-7F85-4540-A6E1-1FC4BD89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8B1AB-312E-4B06-A8D2-9A306B3E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A84D2-F6FF-46C0-A0D0-2B42AAA76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3D98D-ADC3-4E3F-8C83-A293D040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27215-E9BC-4077-9141-B43EAFDF2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1EC31-5C3A-483F-9A02-8B18E33C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C55E4-45C9-4D08-9DF5-1AAB3995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1BB9-7455-43A9-99AE-5CF7703F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FCC7F-22BB-434C-9A08-BCA49E30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CB998-08D7-450A-B872-315D0419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0CF71-19C6-404D-AE31-AA0AC580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46EC8-B618-4835-B5CE-D5C62436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B5603-A9BF-44B7-9214-2CB69345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33055-8A2E-460E-B94D-A38905B8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8437C-B2C6-4159-B188-C836BEBA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E0941-983F-4D6A-84D1-60B0993A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ED217-24D5-4A12-907B-743A3AD88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2ED3-2501-4CB4-906A-6331ABDC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6B43-BC06-460D-A467-846C95D3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48EF-2591-4435-934C-CC3436A5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7433-1CE3-4708-B764-73FE4185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7A9C-B219-45A6-B4E2-4C50B54F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E72A-6B1E-420F-9EDA-1673BA94313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FC80-1898-4DC3-B4A3-EE7EB10B1DE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DDFD-1C51-4020-ABF7-486A3C88174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EA89-3CAB-44A9-9879-7FDB2BCE258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9VA7V46ZwLw" TargetMode="External"/><Relationship Id="rId3" Type="http://schemas.openxmlformats.org/officeDocument/2006/relationships/hyperlink" Target="http://www.youtube.com/watch?v=9VA7V46ZwLw" TargetMode="External"/><Relationship Id="rId4" Type="http://schemas.openxmlformats.org/officeDocument/2006/relationships/hyperlink" Target="http://www.youtube.com/watch?v=9VA7V46ZwLw" TargetMode="External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8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2"/>
          <a:stretch/>
        </p:blipFill>
        <p:spPr>
          <a:xfrm>
            <a:off x="469800" y="1298520"/>
            <a:ext cx="8302680" cy="2438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handsglobe2"/>
          <p:cNvPicPr/>
          <p:nvPr/>
        </p:nvPicPr>
        <p:blipFill>
          <a:blip r:embed="rId3"/>
          <a:stretch/>
        </p:blipFill>
        <p:spPr>
          <a:xfrm>
            <a:off x="3348000" y="4724280"/>
            <a:ext cx="254016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What did we actually do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1348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ESTABLISHED OUR STARTING POINT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Analysed existing da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Surveyed teach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Interviewed stud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What did we actually do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063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DEVELOPED A PLAN t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A) improve learning outcom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B) change attitud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C) develop teachers’ capacity as leaders of lear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5000"/>
            </a:br>
            <a:br>
              <a:rPr sz="5000"/>
            </a:b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Improve learning outcom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1. Checked assumptions by collecting additional da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2. Used data to inform teach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3. Implemented the pl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4. Monitored progress and adjusted practi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5. Tracked students’ lear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Changed attitud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07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Teacher knowled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Modified teaching practic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Changed attitud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(students and teacher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Down Arrow 3"/>
          <p:cNvSpPr/>
          <p:nvPr/>
        </p:nvSpPr>
        <p:spPr>
          <a:xfrm>
            <a:off x="4211640" y="2852640"/>
            <a:ext cx="504720" cy="64764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Down Arrow 4"/>
          <p:cNvSpPr/>
          <p:nvPr/>
        </p:nvSpPr>
        <p:spPr>
          <a:xfrm>
            <a:off x="4211640" y="4294080"/>
            <a:ext cx="504720" cy="64764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84888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Developing teachers’ capacity as leaders of lear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349360"/>
            <a:ext cx="822960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1. Team leader mentor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2.Team meetings modelled adult learning princip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3.Facilitated staff professional lear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How did our plans change along the way and why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95280" y="206208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Responsive to changing nee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e.g.  Intervention in response to teacher concer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</a:t>
            </a: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*  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2 groups of 6 students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from 4 classes withdraw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</a:t>
            </a: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*  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encouraged greater   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student particip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</a:t>
            </a: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* 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improved confidence</a:t>
            </a: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</a:t>
            </a: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* 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improved outcom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Rounded Rectangle 3"/>
          <p:cNvSpPr/>
          <p:nvPr/>
        </p:nvSpPr>
        <p:spPr>
          <a:xfrm>
            <a:off x="755640" y="3860640"/>
            <a:ext cx="2089080" cy="2521080"/>
          </a:xfrm>
          <a:custGeom>
            <a:avLst/>
            <a:gdLst>
              <a:gd name="textAreaLeft" fmla="*/ 101880 w 2089080"/>
              <a:gd name="textAreaRight" fmla="*/ 1987200 w 2089080"/>
              <a:gd name="textAreaTop" fmla="*/ 101880 h 2521080"/>
              <a:gd name="textAreaBottom" fmla="*/ 2419200 h 2521080"/>
            </a:gdLst>
            <a:ahLst/>
            <a:rect l="textAreaLeft" t="textAreaTop" r="textAreaRight" b="textAreaBottom"/>
            <a:pathLst>
              <a:path w="21600" h="26066">
                <a:moveTo>
                  <a:pt x="3600" y="0"/>
                </a:moveTo>
                <a:arcTo wR="3600" hR="3600" stAng="16200000" swAng="-5400000"/>
                <a:lnTo>
                  <a:pt x="0" y="22466"/>
                </a:lnTo>
                <a:arcTo wR="3600" hR="3600" stAng="10800000" swAng="-5400000"/>
                <a:lnTo>
                  <a:pt x="18000" y="260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bf5f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Students ‘lost’ in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Fear of taking risks- making mista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No 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nstantia"/>
              </a:rPr>
              <a:t>Apparent diseng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ounded Rectangle 4"/>
          <p:cNvSpPr/>
          <p:nvPr/>
        </p:nvSpPr>
        <p:spPr>
          <a:xfrm>
            <a:off x="6227640" y="2997360"/>
            <a:ext cx="2016360" cy="9349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onstantia"/>
              </a:rPr>
              <a:t>Short term withdrawal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Curved Left Arrow 5"/>
          <p:cNvSpPr/>
          <p:nvPr/>
        </p:nvSpPr>
        <p:spPr>
          <a:xfrm rot="15591600">
            <a:off x="3772440" y="2435760"/>
            <a:ext cx="720720" cy="2592360"/>
          </a:xfrm>
          <a:custGeom>
            <a:avLst/>
            <a:gdLst>
              <a:gd name="textAreaLeft" fmla="*/ 96480 w 720720"/>
              <a:gd name="textAreaRight" fmla="*/ 624240 w 720720"/>
              <a:gd name="textAreaTop" fmla="*/ 558000 h 2592360"/>
              <a:gd name="textAreaBottom" fmla="*/ 191448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00" stAng="-5400000" swAng="5400000"/>
                <a:lnTo>
                  <a:pt x="21600" y="11300"/>
                </a:lnTo>
                <a:arcTo wR="21600" hR="9300" stAng="0" swAng="3542964"/>
                <a:lnTo>
                  <a:pt x="5400" y="21305"/>
                </a:lnTo>
                <a:lnTo>
                  <a:pt x="0" y="19600"/>
                </a:lnTo>
                <a:lnTo>
                  <a:pt x="5400" y="17305"/>
                </a:lnTo>
                <a:lnTo>
                  <a:pt x="5400" y="18305"/>
                </a:lnTo>
                <a:arcTo wR="21600" hR="9300" stAng="3542964" swAng="-3382997"/>
                <a:lnTo>
                  <a:pt x="21475" y="10300"/>
                </a:lnTo>
                <a:arcTo wR="21600" hR="9300" stAng="-159968" swAng="-5240032"/>
                <a:close/>
              </a:path>
              <a:path fill="darkenLess" w="21600" h="21600">
                <a:moveTo>
                  <a:pt x="0" y="0"/>
                </a:moveTo>
                <a:arcTo wR="21600" hR="9300" stAng="-5400000" swAng="5400000"/>
                <a:lnTo>
                  <a:pt x="21600" y="11300"/>
                </a:lnTo>
                <a:arcTo wR="21600" hR="9300" stAng="0" swAng="-159968"/>
                <a:lnTo>
                  <a:pt x="21475" y="10300"/>
                </a:lnTo>
                <a:arcTo wR="21600" hR="9300" stAng="-159968" swAng="-5240032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6a00d8341c03bb53ef0133f55873d1970b-800wi"/>
          <p:cNvPicPr/>
          <p:nvPr/>
        </p:nvPicPr>
        <p:blipFill>
          <a:blip r:embed="rId2"/>
          <a:stretch/>
        </p:blipFill>
        <p:spPr>
          <a:xfrm>
            <a:off x="1908000" y="836640"/>
            <a:ext cx="568980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How did our plans change along the way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Team leader stepped aside for other team members to lead professional learn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What difference did our actions make for staff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onstantia"/>
              </a:rPr>
              <a:t>For Stage 2 Tea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1. New norm established for teachers to lead lear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2. Greater confidence, engagement and willingness to share with other staff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3. Committed to own professional lear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Stage 2 Tea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91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n-AU" sz="2600" spc="-1" strike="noStrike">
                <a:solidFill>
                  <a:srgbClr val="000000"/>
                </a:solidFill>
                <a:latin typeface="Constantia"/>
              </a:rPr>
              <a:t>I have learnt so much about my students through conducting clinical interviews.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600" spc="-1" strike="noStrike">
                <a:solidFill>
                  <a:srgbClr val="000000"/>
                </a:solidFill>
                <a:latin typeface="Constantia"/>
              </a:rPr>
              <a:t>“ </a:t>
            </a:r>
            <a:r>
              <a:rPr b="0" i="1" lang="en-AU" sz="2600" spc="-1" strike="noStrike">
                <a:solidFill>
                  <a:srgbClr val="000000"/>
                </a:solidFill>
                <a:latin typeface="Constantia"/>
              </a:rPr>
              <a:t>I feel that my teaching is much more focused and efficient.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600" spc="-1" strike="noStrike">
                <a:solidFill>
                  <a:srgbClr val="000000"/>
                </a:solidFill>
                <a:latin typeface="Constantia"/>
              </a:rPr>
              <a:t>“ </a:t>
            </a:r>
            <a:r>
              <a:rPr b="0" i="1" lang="en-AU" sz="2600" spc="-1" strike="noStrike">
                <a:solidFill>
                  <a:srgbClr val="000000"/>
                </a:solidFill>
                <a:latin typeface="Constantia"/>
              </a:rPr>
              <a:t>This work makes me rethink my own professional learning as an educator in the 21</a:t>
            </a:r>
            <a:r>
              <a:rPr b="0" i="1" lang="en-AU" sz="26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i="1" lang="en-AU" sz="2600" spc="-1" strike="noStrike">
                <a:solidFill>
                  <a:srgbClr val="000000"/>
                </a:solidFill>
                <a:latin typeface="Constantia"/>
              </a:rPr>
              <a:t> century!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n-AU" sz="2600" spc="-1" strike="noStrike">
                <a:solidFill>
                  <a:srgbClr val="000000"/>
                </a:solidFill>
                <a:latin typeface="Constantia"/>
              </a:rPr>
              <a:t>This experience has made me ask the question:  ‘What contribution am I making to the development of a child at St Gerard’s?’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600" spc="-1" strike="noStrike">
                <a:solidFill>
                  <a:srgbClr val="000000"/>
                </a:solidFill>
                <a:latin typeface="Constantia"/>
              </a:rPr>
              <a:t>“ </a:t>
            </a:r>
            <a:r>
              <a:rPr b="0" i="1" lang="en-AU" sz="2600" spc="-1" strike="noStrike">
                <a:solidFill>
                  <a:srgbClr val="000000"/>
                </a:solidFill>
                <a:latin typeface="Constantia"/>
              </a:rPr>
              <a:t>I need to set higher expectations for my students.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seed"/>
          <p:cNvPicPr/>
          <p:nvPr/>
        </p:nvPicPr>
        <p:blipFill>
          <a:blip r:embed="rId2"/>
          <a:stretch/>
        </p:blipFill>
        <p:spPr>
          <a:xfrm>
            <a:off x="1332000" y="893880"/>
            <a:ext cx="6408720" cy="51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Whole Staff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Strong interest and curiosity (particularly early years) around the value of clinical interviews and flexible grouping based on growth poi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n-AU" sz="2600" spc="-1" strike="noStrike">
                <a:solidFill>
                  <a:srgbClr val="000000"/>
                </a:solidFill>
                <a:latin typeface="Constantia"/>
              </a:rPr>
              <a:t>When are we going to get the opportunity to implement clinical interviews in stage 1 ??!!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gardening-graphics_1066798a"/>
          <p:cNvPicPr/>
          <p:nvPr/>
        </p:nvPicPr>
        <p:blipFill>
          <a:blip r:embed="rId2"/>
          <a:stretch/>
        </p:blipFill>
        <p:spPr>
          <a:xfrm>
            <a:off x="1692360" y="838080"/>
            <a:ext cx="57340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3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What difference did our actions make for students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2568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Student learning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Quantitative data (growth supported by graphs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% growt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Qualitati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Attitudes / engagement...(</a:t>
            </a:r>
            <a:r>
              <a:rPr b="0" lang="en-AU" sz="2400" spc="-1" strike="noStrike">
                <a:solidFill>
                  <a:srgbClr val="ff0000"/>
                </a:solidFill>
                <a:latin typeface="Constantia"/>
              </a:rPr>
              <a:t>student quotes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Object 3"/>
          <p:cNvGraphicFramePr/>
          <p:nvPr/>
        </p:nvGraphicFramePr>
        <p:xfrm>
          <a:off x="-73080" y="773280"/>
          <a:ext cx="9109080" cy="6111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3080" y="773280"/>
                    <a:ext cx="9109080" cy="61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Object 5"/>
          <p:cNvGraphicFramePr/>
          <p:nvPr/>
        </p:nvGraphicFramePr>
        <p:xfrm>
          <a:off x="0" y="563400"/>
          <a:ext cx="9144000" cy="6465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63400"/>
                    <a:ext cx="9144000" cy="646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Percentage Growth Feb - Au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8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500" spc="-1" strike="noStrike">
                <a:solidFill>
                  <a:srgbClr val="000000"/>
                </a:solidFill>
                <a:latin typeface="Century Gothic"/>
              </a:rPr>
              <a:t>3</a:t>
            </a:r>
            <a:r>
              <a:rPr b="0" lang="en-AU" sz="3500" spc="-1" strike="noStrike">
                <a:solidFill>
                  <a:srgbClr val="000000"/>
                </a:solidFill>
                <a:latin typeface="Constantia"/>
              </a:rPr>
              <a:t>B  -  </a:t>
            </a:r>
            <a:r>
              <a:rPr b="0" lang="en-AU" sz="3500" spc="-1" strike="noStrike">
                <a:solidFill>
                  <a:srgbClr val="000000"/>
                </a:solidFill>
                <a:latin typeface="Century Gothic"/>
              </a:rPr>
              <a:t>79.1</a:t>
            </a:r>
            <a:r>
              <a:rPr b="0" lang="en-AU" sz="3500" spc="-1" strike="noStrike">
                <a:solidFill>
                  <a:srgbClr val="000000"/>
                </a:solidFill>
                <a:latin typeface="Constantia"/>
              </a:rPr>
              <a:t>% 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8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500" spc="-1" strike="noStrike">
                <a:solidFill>
                  <a:srgbClr val="000000"/>
                </a:solidFill>
                <a:latin typeface="Century Gothic"/>
              </a:rPr>
              <a:t>3</a:t>
            </a:r>
            <a:r>
              <a:rPr b="0" lang="en-AU" sz="3500" spc="-1" strike="noStrike">
                <a:solidFill>
                  <a:srgbClr val="000000"/>
                </a:solidFill>
                <a:latin typeface="Constantia"/>
              </a:rPr>
              <a:t>M -   </a:t>
            </a:r>
            <a:r>
              <a:rPr b="0" lang="en-AU" sz="3500" spc="-1" strike="noStrike">
                <a:solidFill>
                  <a:srgbClr val="000000"/>
                </a:solidFill>
                <a:latin typeface="Century Gothic"/>
              </a:rPr>
              <a:t>75.5</a:t>
            </a:r>
            <a:r>
              <a:rPr b="0" lang="en-AU" sz="3500" spc="-1" strike="noStrike">
                <a:solidFill>
                  <a:srgbClr val="000000"/>
                </a:solidFill>
                <a:latin typeface="Constantia"/>
              </a:rPr>
              <a:t>%   (</a:t>
            </a:r>
            <a:r>
              <a:rPr b="0" lang="en-AU" sz="3500" spc="-1" strike="noStrike">
                <a:solidFill>
                  <a:srgbClr val="000000"/>
                </a:solidFill>
                <a:latin typeface="Century Gothic"/>
              </a:rPr>
              <a:t>30</a:t>
            </a:r>
            <a:r>
              <a:rPr b="0" lang="en-AU" sz="3500" spc="-1" strike="noStrike">
                <a:solidFill>
                  <a:srgbClr val="000000"/>
                </a:solidFill>
                <a:latin typeface="Constantia"/>
              </a:rPr>
              <a:t>% over </a:t>
            </a:r>
            <a:r>
              <a:rPr b="0" lang="en-AU" sz="3500" spc="-1" strike="noStrike">
                <a:solidFill>
                  <a:srgbClr val="000000"/>
                </a:solidFill>
                <a:latin typeface="Century Gothic"/>
              </a:rPr>
              <a:t>90</a:t>
            </a:r>
            <a:r>
              <a:rPr b="0" lang="en-AU" sz="3500" spc="-1" strike="noStrike">
                <a:solidFill>
                  <a:srgbClr val="000000"/>
                </a:solidFill>
                <a:latin typeface="Constantia"/>
              </a:rPr>
              <a:t>% growth)</a:t>
            </a: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6" descr=""/>
          <p:cNvPicPr/>
          <p:nvPr/>
        </p:nvPicPr>
        <p:blipFill>
          <a:blip r:embed="rId2"/>
          <a:srcRect l="16240" t="19193" r="20278" b="17815"/>
          <a:stretch/>
        </p:blipFill>
        <p:spPr>
          <a:xfrm>
            <a:off x="108000" y="757080"/>
            <a:ext cx="8713800" cy="569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40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600" spc="-1" strike="noStrike">
                <a:solidFill>
                  <a:srgbClr val="04617b"/>
                </a:solidFill>
                <a:latin typeface="Calibri"/>
              </a:rPr>
              <a:t>                 </a:t>
            </a:r>
            <a:r>
              <a:rPr b="0" lang="en-AU" sz="4600" spc="-1" strike="noStrike">
                <a:solidFill>
                  <a:srgbClr val="04617b"/>
                </a:solidFill>
                <a:latin typeface="Calibri"/>
              </a:rPr>
              <a:t>Year 4 </a:t>
            </a:r>
            <a:br>
              <a:rPr sz="4600"/>
            </a:br>
            <a:r>
              <a:rPr b="0" lang="en-AU" sz="4600" spc="-1" strike="noStrike">
                <a:solidFill>
                  <a:srgbClr val="04617b"/>
                </a:solidFill>
                <a:latin typeface="Calibri"/>
              </a:rPr>
              <a:t>   Combined Growth  Points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Counting   10.5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Addition and Subtraction   22.5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Place Value   26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Multiplication and Division   27.5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Object 4"/>
          <p:cNvGraphicFramePr/>
          <p:nvPr/>
        </p:nvGraphicFramePr>
        <p:xfrm>
          <a:off x="250920" y="0"/>
          <a:ext cx="9467640" cy="6696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7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0"/>
                    <a:ext cx="9467640" cy="66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        </a:t>
            </a: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Combined Yr 4 </a:t>
            </a:r>
            <a:br>
              <a:rPr sz="5000"/>
            </a:b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        Diagnostic Dat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32% of Year 4 have achieved more than half of the Stage 3 Outcom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42% of the grade are working at Stage 3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14% of the students have achieved at least 70% of Stage 3 Outcom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2% of the students have achieved 90% of Stage 3 Outcom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4617b"/>
                </a:solidFill>
                <a:latin typeface="Calibri"/>
              </a:rPr>
              <a:t>What did we set out to do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Improve student learning outcomes in number (St. </a:t>
            </a:r>
            <a:r>
              <a:rPr b="0" lang="en-AU" sz="26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Improve students and teachers’ attitudes to mathemati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Develop teacher capacity as leaders of lear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Student video cli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What have we learned from</a:t>
            </a:r>
            <a:br>
              <a:rPr sz="5000"/>
            </a:b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       the LTLL project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1. Teacher engagement, confidence and capacity  impacts  student learning outcom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2. The greater focus on student needs through use of data the more authentic the learning experiences. This results in improved learning outcomes for  stud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3. A team approach is a powerful force for change,   collegiality , motivation and ultimate succes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6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en-AU" sz="4600" spc="-1" strike="noStrike">
                <a:solidFill>
                  <a:srgbClr val="04617b"/>
                </a:solidFill>
                <a:latin typeface="Calibri"/>
              </a:rPr>
              <a:t>What have we learned from </a:t>
            </a:r>
            <a:br>
              <a:rPr sz="4600"/>
            </a:br>
            <a:r>
              <a:rPr b="0" lang="en-AU" sz="4600" spc="-1" strike="noStrike">
                <a:solidFill>
                  <a:srgbClr val="04617b"/>
                </a:solidFill>
                <a:latin typeface="Calibri"/>
              </a:rPr>
              <a:t>          the LTLL project?                       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4. Professional learning is most effective when  underpinned by principles of adult learn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5. Planning is important, however a flexible  approach  which is responsive to needs promotes  teacher ‘buy-in’ and commit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6. Change initiatives must  be  adequately  resourced  to ensure their sustainabilit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    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Leadership Practices that make a </a:t>
            </a: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    difference to students’ outcomes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905120"/>
            <a:ext cx="8229600" cy="48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ear goals and expect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sourcing strategical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anning, coordinating, evaluating teaching and the curriculu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moting and participating in teacher learning &amp; develop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nsuring an orderly and supportive environ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dapted from V. Robins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Viviane Robinson leadership Practi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528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Our learnings  are supported by Viviane Robinson’s BES Research around leadership practices.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12720" y="3789360"/>
            <a:ext cx="82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e2d7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AU" sz="2400" spc="-1" strike="noStrike" u="sng">
                <a:solidFill>
                  <a:srgbClr val="e2d700"/>
                </a:solidFill>
                <a:uFillTx/>
                <a:latin typeface="Arial"/>
                <a:hlinkClick r:id="rId3"/>
              </a:rPr>
              <a:t>www.youtube.com/watch?v</a:t>
            </a:r>
            <a:r>
              <a:rPr b="0" lang="en-AU" sz="2400" spc="-1" strike="noStrike" u="sng">
                <a:solidFill>
                  <a:srgbClr val="e2d700"/>
                </a:solidFill>
                <a:uFillTx/>
                <a:latin typeface="Arial"/>
                <a:hlinkClick r:id="rId4"/>
              </a:rPr>
              <a:t>=9VA7V46ZwL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What now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Constantia"/>
              </a:rPr>
              <a:t>Phase 2-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Apply the LTLL model K-6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Stage 2 team to lead whole school development in numb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Apply  principles  of LTLL  across other priority learning areas in the schoo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0" lang="en-AU" sz="4500" spc="-1" strike="noStrike">
                <a:solidFill>
                  <a:srgbClr val="04617b"/>
                </a:solidFill>
                <a:latin typeface="Calibri"/>
              </a:rPr>
              <a:t>  </a:t>
            </a: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0" lang="en-AU" sz="45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en-AU" sz="4000" spc="-1" strike="noStrike">
                <a:solidFill>
                  <a:srgbClr val="04617b"/>
                </a:solidFill>
                <a:latin typeface="Calibri"/>
              </a:rPr>
              <a:t>The Future must be linked to WHY</a:t>
            </a:r>
            <a:r>
              <a:rPr b="0" lang="en-AU" sz="4500" spc="-1" strike="noStrike">
                <a:solidFill>
                  <a:srgbClr val="04617b"/>
                </a:solidFill>
                <a:latin typeface="Calibri"/>
              </a:rPr>
              <a:t>!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onstantia"/>
              </a:rPr>
              <a:t>In order that  our children can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onstantia"/>
              </a:rPr>
              <a:t>CONTRIBUTE POSITIVELY TO THEIR FUTURE WORLD!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5" descr="LightBulbDrawing"/>
          <p:cNvPicPr/>
          <p:nvPr/>
        </p:nvPicPr>
        <p:blipFill>
          <a:blip r:embed="rId2"/>
          <a:stretch/>
        </p:blipFill>
        <p:spPr>
          <a:xfrm>
            <a:off x="4716360" y="0"/>
            <a:ext cx="3816360" cy="3195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6a00d8341c03bb53ef0133f55873d1970b-800wi"/>
          <p:cNvPicPr/>
          <p:nvPr/>
        </p:nvPicPr>
        <p:blipFill>
          <a:blip r:embed="rId3"/>
          <a:stretch/>
        </p:blipFill>
        <p:spPr>
          <a:xfrm>
            <a:off x="826920" y="3257640"/>
            <a:ext cx="3743640" cy="3600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7" descr="seed"/>
          <p:cNvPicPr/>
          <p:nvPr/>
        </p:nvPicPr>
        <p:blipFill>
          <a:blip r:embed="rId4"/>
          <a:stretch/>
        </p:blipFill>
        <p:spPr>
          <a:xfrm>
            <a:off x="826920" y="260280"/>
            <a:ext cx="3745080" cy="3024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9" descr="gardening-graphics_1066798a"/>
          <p:cNvPicPr/>
          <p:nvPr/>
        </p:nvPicPr>
        <p:blipFill>
          <a:blip r:embed="rId5"/>
          <a:stretch/>
        </p:blipFill>
        <p:spPr>
          <a:xfrm>
            <a:off x="4572000" y="3284640"/>
            <a:ext cx="39607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Why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2279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Commitment to  whole school framework and  authentic lear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24000" y="4869000"/>
          <a:ext cx="8208720" cy="1608120"/>
        </p:xfrm>
        <a:graphic>
          <a:graphicData uri="http://schemas.openxmlformats.org/drawingml/2006/table">
            <a:tbl>
              <a:tblPr/>
              <a:tblGrid>
                <a:gridCol w="8208720"/>
              </a:tblGrid>
              <a:tr h="125964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f497d"/>
                          </a:solidFill>
                          <a:latin typeface="Calibri"/>
                          <a:ea typeface="Times New Roman"/>
                        </a:rPr>
                        <a:t>We are committed to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Albertus Medium"/>
                          <a:ea typeface="Times New Roman"/>
                        </a:rPr>
                        <a:t>Building Relationships</a:t>
                      </a:r>
                      <a:r>
                        <a:rPr b="1" i="1" lang="en-US" sz="1200" spc="-1" strike="noStrike">
                          <a:solidFill>
                            <a:srgbClr val="1f497d"/>
                          </a:solidFill>
                          <a:latin typeface="Albertus Medium"/>
                          <a:ea typeface="Times New Roman"/>
                        </a:rPr>
                        <a:t>            Valuing and Celebrating            Authentic Engagement            Challenging and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1f497d"/>
                          </a:solidFill>
                          <a:latin typeface="Albertus Medium"/>
                          <a:ea typeface="Times New Roman"/>
                        </a:rPr>
                        <a:t>                                                         </a:t>
                      </a:r>
                      <a:r>
                        <a:rPr b="1" i="1" lang="en-US" sz="1200" spc="-1" strike="noStrike">
                          <a:solidFill>
                            <a:srgbClr val="1f497d"/>
                          </a:solidFill>
                          <a:latin typeface="Albertus Medium"/>
                          <a:ea typeface="Times New Roman"/>
                        </a:rPr>
                        <a:t>the individual                                                                       Supportive  Lear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1f497d"/>
                          </a:solidFill>
                          <a:latin typeface="Albertus Medium"/>
                          <a:ea typeface="Times New Roman"/>
                        </a:rPr>
                        <a:t>                                                                                                                                                             </a:t>
                      </a:r>
                      <a:r>
                        <a:rPr b="1" i="1" lang="en-US" sz="1200" spc="-1" strike="noStrike">
                          <a:solidFill>
                            <a:srgbClr val="1f497d"/>
                          </a:solidFill>
                          <a:latin typeface="Albertus Medium"/>
                          <a:ea typeface="Times New Roman"/>
                        </a:rPr>
                        <a:t>Environment               </a:t>
                      </a:r>
                      <a:r>
                        <a:rPr b="1" i="1" lang="en-US" sz="1200" spc="-1" strike="noStrike">
                          <a:solidFill>
                            <a:srgbClr val="943634"/>
                          </a:solidFill>
                          <a:latin typeface="Albertus Medium"/>
                          <a:ea typeface="Times New Roman"/>
                        </a:rPr>
                        <a:t>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559800"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43634"/>
                          </a:solidFill>
                          <a:latin typeface="Calibri"/>
                          <a:ea typeface="Times New Roman"/>
                        </a:rPr>
                        <a:t>In order that our children can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1f497d"/>
                          </a:solidFill>
                          <a:latin typeface="Albertus Medium"/>
                          <a:ea typeface="Times New Roman"/>
                        </a:rPr>
                        <a:t>contribute positively to their future wor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Rectangle 17"/>
          <p:cNvSpPr/>
          <p:nvPr/>
        </p:nvSpPr>
        <p:spPr>
          <a:xfrm>
            <a:off x="2987640" y="1052640"/>
            <a:ext cx="3168720" cy="1368360"/>
          </a:xfrm>
          <a:prstGeom prst="rect">
            <a:avLst/>
          </a:prstGeom>
          <a:solidFill>
            <a:srgbClr val="dbf5f9"/>
          </a:soli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1f497d"/>
                </a:solidFill>
                <a:uFillTx/>
                <a:latin typeface="Arial"/>
                <a:ea typeface="Times New Roman"/>
              </a:rPr>
              <a:t>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1f497d"/>
                </a:solidFill>
                <a:latin typeface="Arial"/>
                <a:ea typeface="Times New Roman"/>
              </a:rPr>
              <a:t>United in Baptis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1f497d"/>
                </a:solidFill>
                <a:latin typeface="Arial"/>
                <a:ea typeface="Times New Roman"/>
              </a:rPr>
              <a:t>Journeying in faith and lear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1f497d"/>
                </a:solidFill>
                <a:latin typeface="Arial"/>
                <a:ea typeface="Times New Roman"/>
              </a:rPr>
              <a:t>We form a vibrant and pastoral communit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1f497d"/>
                </a:solidFill>
                <a:latin typeface="Arial"/>
                <a:ea typeface="Times New Roman"/>
              </a:rPr>
              <a:t>Valuing the Individu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1f497d"/>
                </a:solidFill>
                <a:latin typeface="Arial"/>
                <a:ea typeface="Times New Roman"/>
              </a:rPr>
              <a:t>Challenging all learner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1f497d"/>
                </a:solidFill>
                <a:latin typeface="Arial"/>
                <a:ea typeface="Times New Roman"/>
              </a:rPr>
              <a:t>Making a positive difference in the worl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6"/>
          <p:cNvSpPr/>
          <p:nvPr/>
        </p:nvSpPr>
        <p:spPr>
          <a:xfrm rot="3045000">
            <a:off x="2681640" y="2497680"/>
            <a:ext cx="87120" cy="552600"/>
          </a:xfrm>
          <a:prstGeom prst="upDownArrow">
            <a:avLst>
              <a:gd name="adj1" fmla="val 50000"/>
              <a:gd name="adj2" fmla="val 126272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5"/>
          <p:cNvSpPr/>
          <p:nvPr/>
        </p:nvSpPr>
        <p:spPr>
          <a:xfrm>
            <a:off x="971640" y="2565360"/>
            <a:ext cx="1380960" cy="1728720"/>
          </a:xfrm>
          <a:custGeom>
            <a:avLst/>
            <a:gdLst>
              <a:gd name="textAreaLeft" fmla="*/ 67320 w 1380960"/>
              <a:gd name="textAreaRight" fmla="*/ 1313640 w 1380960"/>
              <a:gd name="textAreaTop" fmla="*/ 67320 h 1728720"/>
              <a:gd name="textAreaBottom" fmla="*/ 1661400 h 1728720"/>
            </a:gdLst>
            <a:ahLst/>
            <a:rect l="textAreaLeft" t="textAreaTop" r="textAreaRight" b="textAreaBottom"/>
            <a:pathLst>
              <a:path w="21600" h="27038">
                <a:moveTo>
                  <a:pt x="3600" y="0"/>
                </a:moveTo>
                <a:arcTo wR="3600" hR="3600" stAng="16200000" swAng="-5400000"/>
                <a:lnTo>
                  <a:pt x="0" y="23438"/>
                </a:lnTo>
                <a:arcTo wR="3600" hR="3600" stAng="10800000" swAng="-5400000"/>
                <a:lnTo>
                  <a:pt x="18000" y="270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bf5f9"/>
          </a:soli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1f497d"/>
                </a:solidFill>
                <a:uFillTx/>
                <a:latin typeface="Arial"/>
                <a:ea typeface="Times New Roman"/>
              </a:rPr>
              <a:t>OUR STRUCTUR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f497d"/>
                </a:solidFill>
                <a:latin typeface="Arial"/>
                <a:ea typeface="Times New Roman"/>
              </a:rPr>
              <a:t>At St Gerard’s we structure opportunities to develop as a faith &amp; learning commun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4"/>
          <p:cNvSpPr/>
          <p:nvPr/>
        </p:nvSpPr>
        <p:spPr>
          <a:xfrm>
            <a:off x="3924360" y="3068640"/>
            <a:ext cx="1030320" cy="911160"/>
          </a:xfrm>
          <a:prstGeom prst="ellipse">
            <a:avLst/>
          </a:prstGeom>
          <a:solidFill>
            <a:srgbClr val="dbf5f9"/>
          </a:solidFill>
          <a:ln w="316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1f497d"/>
                </a:solidFill>
                <a:latin typeface="Arial"/>
                <a:ea typeface="Times New Roman"/>
              </a:rPr>
              <a:t>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1f497d"/>
                </a:solidFill>
                <a:latin typeface="Arial"/>
                <a:ea typeface="Times New Roman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3"/>
          <p:cNvSpPr/>
          <p:nvPr/>
        </p:nvSpPr>
        <p:spPr>
          <a:xfrm>
            <a:off x="6443640" y="2565360"/>
            <a:ext cx="1381320" cy="1584360"/>
          </a:xfrm>
          <a:custGeom>
            <a:avLst/>
            <a:gdLst>
              <a:gd name="textAreaLeft" fmla="*/ 67320 w 1381320"/>
              <a:gd name="textAreaRight" fmla="*/ 1314000 w 1381320"/>
              <a:gd name="textAreaTop" fmla="*/ 67320 h 1584360"/>
              <a:gd name="textAreaBottom" fmla="*/ 1517040 h 1584360"/>
            </a:gdLst>
            <a:ahLst/>
            <a:rect l="textAreaLeft" t="textAreaTop" r="textAreaRight" b="textAreaBottom"/>
            <a:pathLst>
              <a:path w="21600" h="24774">
                <a:moveTo>
                  <a:pt x="3600" y="0"/>
                </a:moveTo>
                <a:arcTo wR="3600" hR="3600" stAng="16200000" swAng="-5400000"/>
                <a:lnTo>
                  <a:pt x="0" y="21174"/>
                </a:lnTo>
                <a:arcTo wR="3600" hR="3600" stAng="10800000" swAng="-5400000"/>
                <a:lnTo>
                  <a:pt x="18000" y="247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bf5f9"/>
          </a:soli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1f497d"/>
                </a:solidFill>
                <a:uFillTx/>
                <a:latin typeface="Arial"/>
                <a:ea typeface="Times New Roman"/>
              </a:rPr>
              <a:t>OUR PROCESS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f497d"/>
                </a:solidFill>
                <a:latin typeface="Arial"/>
                <a:ea typeface="Times New Roman"/>
              </a:rPr>
              <a:t>At St Gerard’s we engage in processes to develop as a faith &amp; learning commun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1"/>
          <p:cNvSpPr/>
          <p:nvPr/>
        </p:nvSpPr>
        <p:spPr>
          <a:xfrm flipH="1" flipV="1" rot="8013600">
            <a:off x="5731560" y="2522880"/>
            <a:ext cx="86040" cy="457200"/>
          </a:xfrm>
          <a:prstGeom prst="upDownArrow">
            <a:avLst>
              <a:gd name="adj1" fmla="val 50000"/>
              <a:gd name="adj2" fmla="val 105784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0"/>
          <p:cNvSpPr/>
          <p:nvPr/>
        </p:nvSpPr>
        <p:spPr>
          <a:xfrm flipH="1" rot="8014200">
            <a:off x="2992680" y="4115160"/>
            <a:ext cx="103320" cy="457200"/>
          </a:xfrm>
          <a:prstGeom prst="upDownArrow">
            <a:avLst>
              <a:gd name="adj1" fmla="val 50000"/>
              <a:gd name="adj2" fmla="val 88092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9"/>
          <p:cNvSpPr/>
          <p:nvPr/>
        </p:nvSpPr>
        <p:spPr>
          <a:xfrm flipH="1" rot="5478600">
            <a:off x="5551920" y="3247560"/>
            <a:ext cx="84240" cy="456840"/>
          </a:xfrm>
          <a:prstGeom prst="upDownArrow">
            <a:avLst>
              <a:gd name="adj1" fmla="val 50000"/>
              <a:gd name="adj2" fmla="val 107959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8"/>
          <p:cNvSpPr/>
          <p:nvPr/>
        </p:nvSpPr>
        <p:spPr>
          <a:xfrm flipH="1" rot="10879200">
            <a:off x="4360320" y="2494440"/>
            <a:ext cx="98280" cy="456840"/>
          </a:xfrm>
          <a:prstGeom prst="upDownArrow">
            <a:avLst>
              <a:gd name="adj1" fmla="val 50000"/>
              <a:gd name="adj2" fmla="val 92536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 flipH="1" rot="10831200">
            <a:off x="4357800" y="4149720"/>
            <a:ext cx="115920" cy="457200"/>
          </a:xfrm>
          <a:prstGeom prst="upDownArrow">
            <a:avLst>
              <a:gd name="adj1" fmla="val 50000"/>
              <a:gd name="adj2" fmla="val 78516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6"/>
          <p:cNvSpPr/>
          <p:nvPr/>
        </p:nvSpPr>
        <p:spPr>
          <a:xfrm flipH="1" rot="5385600">
            <a:off x="2941200" y="3259080"/>
            <a:ext cx="115920" cy="457200"/>
          </a:xfrm>
          <a:prstGeom prst="upDownArrow">
            <a:avLst>
              <a:gd name="adj1" fmla="val 50000"/>
              <a:gd name="adj2" fmla="val 78516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6740640" y="6638760"/>
            <a:ext cx="2403360" cy="219240"/>
          </a:xfrm>
          <a:prstGeom prst="rect">
            <a:avLst/>
          </a:prstGeom>
          <a:solidFill>
            <a:srgbClr val="ffffff"/>
          </a:solidFill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©Mary Leahy Framework -  Used with Permiss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"/>
          <p:cNvSpPr/>
          <p:nvPr/>
        </p:nvSpPr>
        <p:spPr>
          <a:xfrm rot="3045000">
            <a:off x="5777280" y="4080600"/>
            <a:ext cx="87480" cy="552600"/>
          </a:xfrm>
          <a:prstGeom prst="upDownArrow">
            <a:avLst>
              <a:gd name="adj1" fmla="val 50000"/>
              <a:gd name="adj2" fmla="val 125752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Rectangle 19" descr=""/>
          <p:cNvPicPr/>
          <p:nvPr/>
        </p:nvPicPr>
        <p:blipFill>
          <a:blip r:embed="rId2"/>
          <a:stretch/>
        </p:blipFill>
        <p:spPr>
          <a:xfrm>
            <a:off x="0" y="85680"/>
            <a:ext cx="9144000" cy="9208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26"/>
          <p:cNvSpPr/>
          <p:nvPr/>
        </p:nvSpPr>
        <p:spPr>
          <a:xfrm>
            <a:off x="4481640" y="433080"/>
            <a:ext cx="1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4024440" y="662040"/>
            <a:ext cx="1095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Why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Inconsistent student achievement in number for stage 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Up to 33% of students not achieving benchmark growth in numbe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Why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560" y="2207880"/>
            <a:ext cx="85690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onstantia"/>
              </a:rPr>
              <a:t>Students don’t  see themselves as ‘mathematicians’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600" spc="-1" strike="noStrike">
                <a:solidFill>
                  <a:srgbClr val="000000"/>
                </a:solidFill>
                <a:latin typeface="Constantia"/>
              </a:rPr>
              <a:t>Sometimes I say to myself, “I wish I had that person’s maths brains!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n-AU" sz="2600" spc="-1" strike="noStrike">
                <a:solidFill>
                  <a:srgbClr val="000000"/>
                </a:solidFill>
                <a:latin typeface="Constantia"/>
              </a:rPr>
              <a:t>When I see someone really smart I don’t feel confident to ask for help.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n-AU" sz="2600" spc="-1" strike="noStrike">
                <a:solidFill>
                  <a:srgbClr val="000000"/>
                </a:solidFill>
                <a:latin typeface="Constantia"/>
              </a:rPr>
              <a:t>I’m not good at maths because my parents aren’t good at maths.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n-AU" sz="2600" spc="-1" strike="noStrike">
                <a:solidFill>
                  <a:srgbClr val="000000"/>
                </a:solidFill>
                <a:latin typeface="Constantia"/>
              </a:rPr>
              <a:t>Well I think I’m ok at maths, but not that good!!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Why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Need to improve teacher confidence and knowled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onstantia"/>
              </a:rPr>
              <a:t>“ </a:t>
            </a:r>
            <a:r>
              <a:rPr b="0" i="1" lang="en-AU" sz="2400" spc="-1" strike="noStrike">
                <a:solidFill>
                  <a:srgbClr val="000000"/>
                </a:solidFill>
                <a:latin typeface="Constantia"/>
              </a:rPr>
              <a:t>Maths is hard work.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n-AU" sz="2400" spc="-1" strike="noStrike">
                <a:solidFill>
                  <a:srgbClr val="000000"/>
                </a:solidFill>
                <a:latin typeface="Constantia"/>
              </a:rPr>
              <a:t>What am I going to do with this data?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n-AU" sz="2400" spc="-1" strike="noStrike">
                <a:solidFill>
                  <a:srgbClr val="000000"/>
                </a:solidFill>
                <a:latin typeface="Constantia"/>
              </a:rPr>
              <a:t>I am not meeting students point of need.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n-AU" sz="2400" spc="-1" strike="noStrike">
                <a:solidFill>
                  <a:srgbClr val="000000"/>
                </a:solidFill>
                <a:latin typeface="Constantia"/>
              </a:rPr>
              <a:t>It’s difficult to get resources ready.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n-AU" sz="2400" spc="-1" strike="noStrike">
                <a:solidFill>
                  <a:srgbClr val="000000"/>
                </a:solidFill>
                <a:latin typeface="Constantia"/>
              </a:rPr>
              <a:t>It requires a lot of lesson prep…Is it worth it? Is it sustainable?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i="1" lang="en-AU" sz="2400" spc="-1" strike="noStrike">
                <a:solidFill>
                  <a:srgbClr val="000000"/>
                </a:solidFill>
                <a:latin typeface="Constantia"/>
              </a:rPr>
              <a:t>It’s a problem catering for so many individual needs in my class.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onstantia"/>
              </a:rPr>
              <a:t>“ </a:t>
            </a:r>
            <a:r>
              <a:rPr b="0" i="1" lang="en-AU" sz="2400" spc="-1" strike="noStrike">
                <a:solidFill>
                  <a:srgbClr val="000000"/>
                </a:solidFill>
                <a:latin typeface="Constantia"/>
              </a:rPr>
              <a:t>Some students are still experiencing difficulties no matter what I do!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LightBulbDrawing"/>
          <p:cNvPicPr/>
          <p:nvPr/>
        </p:nvPicPr>
        <p:blipFill>
          <a:blip r:embed="rId2"/>
          <a:stretch/>
        </p:blipFill>
        <p:spPr>
          <a:xfrm>
            <a:off x="1407960" y="763560"/>
            <a:ext cx="656460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00:11:37Z</dcterms:created>
  <dc:creator>HP_Administrator</dc:creator>
  <dc:description/>
  <dc:language>en-US</dc:language>
  <cp:lastModifiedBy>hilary.cameron</cp:lastModifiedBy>
  <dcterms:modified xsi:type="dcterms:W3CDTF">2011-11-09T04:15:36Z</dcterms:modified>
  <cp:revision>283</cp:revision>
  <dc:subject/>
  <dc:title>Slide 1</dc:title>
</cp:coreProperties>
</file>